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7C0-C1CA-404F-8B64-16F58651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44F-9B8F-4600-8DF4-8903D655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B78-85AC-412D-B54E-3D6BECDC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C2F-9B12-4BAC-828C-AC501E08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2B1C-FEC5-4A4D-8C26-19F5133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365B-1066-47C7-90B4-886F835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0D1-0B81-4F23-BE6F-EFB79069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D5B-A77E-473E-81F3-371BBAB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40F1-F67A-4517-A504-34F7493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6CD7-7DA2-4F9D-B2B3-3B0D150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C9F-04C0-4811-81BB-05FE2C7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CCB-219E-43A7-8BDB-76D3B7B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E11-42C5-47D2-8188-1768C9D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8A2-332B-45E6-B44F-5F6078A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812-6AD3-4486-9F94-CADC486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325F-1F29-4CFD-A780-850A997B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8007-08F5-4D9A-A105-85A36ECF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76C-1FB6-4009-A97D-D57D540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231-E628-4974-A7A5-850647B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058-1409-4B3C-BCC4-6D51C33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A9E-8DB8-408F-92C2-C03819D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E27-92A9-4588-81EF-4AE63D3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F1A-BE59-418F-B529-3D544C4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28E-A0D5-418D-A290-BF37D53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0FB-15A1-4D17-993A-1FDD37E7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313-29C4-4E6A-82D3-24B8645E3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5%20Indicators%20of%20a%20Chemical%20Change.ppt" TargetMode="External"/><Relationship Id="rId2" Type="http://schemas.openxmlformats.org/officeDocument/2006/relationships/hyperlink" Target="http://www.youtube.com/watch?v=84v8yRPwo5A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4952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om this lesson you will be able to determine if a chemical change has taken place (IPC 8A &amp; Chem 4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858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A Temperatur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04920" y="2133720"/>
            <a:ext cx="853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+ 2 N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CN --&gt; Ba(SCN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+ 2 N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1676520" y="2762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emperature Chang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600200" y="4191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ndother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tions = absorb heat and feel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Instant Ice Packs"/>
          <p:cNvPicPr/>
          <p:nvPr/>
        </p:nvPicPr>
        <p:blipFill>
          <a:blip r:embed="rId2"/>
          <a:stretch/>
        </p:blipFill>
        <p:spPr>
          <a:xfrm>
            <a:off x="5486400" y="4038480"/>
            <a:ext cx="944640" cy="10670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2514600" y="55404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ther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tions = release heat and fee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://ts1.mm.bing.net/images/thumbnail.aspx?q=1413484326124&amp;id=0172235128e6cc1feb20eaad7895cb7f&amp;url=http%3a%2f%2fwww.ecarepackage.org%2fecareshop%2fimages%2fhand%2520warmer.jpg"/>
          <p:cNvPicPr/>
          <p:nvPr/>
        </p:nvPicPr>
        <p:blipFill>
          <a:blip r:embed="rId3"/>
          <a:stretch/>
        </p:blipFill>
        <p:spPr>
          <a:xfrm>
            <a:off x="6248520" y="5257800"/>
            <a:ext cx="102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1"/>
          <p:cNvSpPr/>
          <p:nvPr/>
        </p:nvSpPr>
        <p:spPr>
          <a:xfrm>
            <a:off x="914400" y="53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04920" y="10666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The 5 Indicators of a Chemical Change a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04920" y="19051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1.  Production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04920" y="2743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Production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1752480" y="366696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 Permanent Col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1828800" y="4572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Formation of  a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2286000" y="541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  Temperatur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View Image"/>
          <p:cNvPicPr/>
          <p:nvPr/>
        </p:nvPicPr>
        <p:blipFill>
          <a:blip r:embed="rId1"/>
          <a:stretch/>
        </p:blipFill>
        <p:spPr>
          <a:xfrm>
            <a:off x="6781680" y="3352680"/>
            <a:ext cx="15526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hemistryland.com/CHM107Lab/SafetyTutorial1/sparkler.jpg"/>
          <p:cNvPicPr/>
          <p:nvPr/>
        </p:nvPicPr>
        <p:blipFill>
          <a:blip r:embed="rId2"/>
          <a:stretch/>
        </p:blipFill>
        <p:spPr>
          <a:xfrm>
            <a:off x="4343400" y="2743200"/>
            <a:ext cx="846000" cy="7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core.ecu.edu/chem/chemlab/exper20/images/fizz3.jpg"/>
          <p:cNvPicPr/>
          <p:nvPr/>
        </p:nvPicPr>
        <p:blipFill>
          <a:blip r:embed="rId3"/>
          <a:stretch/>
        </p:blipFill>
        <p:spPr>
          <a:xfrm>
            <a:off x="5334120" y="1676520"/>
            <a:ext cx="987480" cy="1109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ts1.mm.bing.net/images/thumbnail.aspx?q=1581718249672&amp;id=9922fc45283e6cf1dc8ede910f953285&amp;url=http%3a%2f%2fwww.harpercollege.edu%2ftm-ps%2fchm%2f100%2fdgodambe%2fthedisk%2fchemrxn%2fhrxn.jpg"/>
          <p:cNvPicPr/>
          <p:nvPr/>
        </p:nvPicPr>
        <p:blipFill>
          <a:blip r:embed="rId4"/>
          <a:stretch/>
        </p:blipFill>
        <p:spPr>
          <a:xfrm>
            <a:off x="7086600" y="4495680"/>
            <a:ext cx="1066680" cy="82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Instant Ice Packs"/>
          <p:cNvPicPr/>
          <p:nvPr/>
        </p:nvPicPr>
        <p:blipFill>
          <a:blip r:embed="rId5"/>
          <a:stretch/>
        </p:blipFill>
        <p:spPr>
          <a:xfrm>
            <a:off x="6629400" y="5486400"/>
            <a:ext cx="944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5998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Live Chem websit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hem.ox.ac.uk/vrchemistry/LiveChem/transitionmetals_conte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n the Virtual Chemistry Lab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erform the following 5 experi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cord whether they demonstrate a chemical change.  The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hoose 5 other experimental mixes of your ow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cord whether they demonstrate a chemical change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 the 5 Indicators of a Chemical Change to support your findings for all 10 experiments condu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next slide for the Lab Write-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38080" y="533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Indicators of a Chemical Chang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380880" y="9907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urpose of this lab experiment is to determine whether a chemical change has taken place using the 5 indicators of a chemical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fety Equipment Necess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you were performing these experiments in the laboratory, what safety measures would you need to take to ensure your safety and the safety of others aroun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2057400" y="2666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3048120"/>
          <a:ext cx="6782040" cy="3230280"/>
        </p:xfrm>
        <a:graphic>
          <a:graphicData uri="http://schemas.openxmlformats.org/drawingml/2006/table">
            <a:tbl>
              <a:tblPr/>
              <a:tblGrid>
                <a:gridCol w="1295640"/>
                <a:gridCol w="228600"/>
                <a:gridCol w="1600200"/>
                <a:gridCol w="1600200"/>
                <a:gridCol w="2057400"/>
              </a:tblGrid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t from the 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gent from the Bott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here a chemical chang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to support your finding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 Turni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Granu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N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change that occurs when a substance changes composition 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ing one or more new sub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209680" y="5181480"/>
            <a:ext cx="5943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200400"/>
            <a:ext cx="685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substances/products that are form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a different chemical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original substances/reactants at the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Hydrochloric Acid (HCl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agnesium (Mg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ips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ShockwaveFlash1"/>
          <p:cNvGraphicFramePr/>
          <p:nvPr/>
        </p:nvGraphicFramePr>
        <p:xfrm>
          <a:off x="4038480" y="3200400"/>
          <a:ext cx="44197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00400"/>
                    <a:ext cx="441972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35326916[1]"/>
          <p:cNvPicPr/>
          <p:nvPr/>
        </p:nvPicPr>
        <p:blipFill>
          <a:blip r:embed="rId2"/>
          <a:stretch/>
        </p:blipFill>
        <p:spPr>
          <a:xfrm>
            <a:off x="64008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1371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752480" y="190512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+ 2HCl        M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8"/>
          <p:cNvCxnSpPr/>
          <p:nvPr/>
        </p:nvCxnSpPr>
        <p:spPr>
          <a:xfrm>
            <a:off x="4114800" y="213372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Box 9"/>
          <p:cNvSpPr/>
          <p:nvPr/>
        </p:nvSpPr>
        <p:spPr>
          <a:xfrm>
            <a:off x="14479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000"/>
                </a:solidFill>
                <a:uFillTx/>
                <a:latin typeface="Arial"/>
              </a:rPr>
              <a:t>Production of Gas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990720" y="47242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action is very similar to the reactions that take place in the digestive track whe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chloric Acid (HCl) in your stomach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 in the digestive proces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estion is a chemical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a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agnesium (Mg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ip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xygen (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burning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>
            <a:hlinkClick r:id="rId1"/>
          </p:cNvPr>
          <p:cNvSpPr/>
          <p:nvPr/>
        </p:nvSpPr>
        <p:spPr>
          <a:xfrm>
            <a:off x="3429000" y="3124080"/>
            <a:ext cx="510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73392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4v8yRPwo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6858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514600" y="213372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2Mg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8"/>
          <p:cNvCxnSpPr/>
          <p:nvPr/>
        </p:nvCxnSpPr>
        <p:spPr>
          <a:xfrm>
            <a:off x="4267080" y="2437920"/>
            <a:ext cx="457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9"/>
          <p:cNvSpPr/>
          <p:nvPr/>
        </p:nvSpPr>
        <p:spPr>
          <a:xfrm>
            <a:off x="2819520" y="28195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rmation of Ligh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133720" y="46483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the same reaction that is used to make fireworks and spark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View Image"/>
          <p:cNvPicPr/>
          <p:nvPr/>
        </p:nvPicPr>
        <p:blipFill>
          <a:blip r:embed="rId2"/>
          <a:stretch/>
        </p:blipFill>
        <p:spPr>
          <a:xfrm>
            <a:off x="6629400" y="502920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two clear liquids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ead II Nitrate Pb(N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otassium Iodide (KI)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ShockwaveFlash1"/>
          <p:cNvGraphicFramePr/>
          <p:nvPr/>
        </p:nvGraphicFramePr>
        <p:xfrm>
          <a:off x="4191120" y="3276720"/>
          <a:ext cx="4419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441936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685800" y="1371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 Color Change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pitate (insoluble sol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676520" y="2438280"/>
            <a:ext cx="64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KI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bI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2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4419720" y="27432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9"/>
          <p:cNvSpPr/>
          <p:nvPr/>
        </p:nvSpPr>
        <p:spPr>
          <a:xfrm>
            <a:off x="1676520" y="3124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ermanent Color Chan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ormation of a Precipita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wo indicators of a Chem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362320" y="48769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s like these 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water treatment pla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orm precipitates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 remove calcium, magnesium, iron, and manganese 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two solids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arium Hydroxide Octahydr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mmonium Thiocyan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ShockwaveFlash1"/>
          <p:cNvGraphicFramePr/>
          <p:nvPr/>
        </p:nvGraphicFramePr>
        <p:xfrm>
          <a:off x="4191120" y="3276720"/>
          <a:ext cx="4419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441936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01:33Z</dcterms:created>
  <dc:creator>Carlton Downey</dc:creator>
  <dc:description/>
  <dc:language>en-US</dc:language>
  <cp:lastModifiedBy>Carlton Downey</cp:lastModifiedBy>
  <dcterms:modified xsi:type="dcterms:W3CDTF">2011-01-25T05:23:44Z</dcterms:modified>
  <cp:revision>154</cp:revision>
  <dc:subject/>
  <dc:title>Earth Chemistry</dc:title>
</cp:coreProperties>
</file>